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CAF0-4126-4EE0-81BB-A4622114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7D23-B0DA-4CCC-9BA5-3431EA64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CA12-B7B0-462A-88A4-21616F67F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478C-6161-4961-B8E3-260593C9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0297-592C-4667-B21C-DC61C04F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0CEB-3D91-48CD-9414-02B9140B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15A1-BDD4-4077-8F12-4DE9E165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DE83-5DFE-46A8-AB35-4436DF29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D92C-42B7-4D64-BBC6-3211C5A1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4BF8-675B-49C1-A139-3298216A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6917-2501-4E3F-8F5D-3B517A61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4982-BFA0-45B7-8E4D-27250AB3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8691-4B79-43B4-B9C9-2EC8015A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C7C7-B890-4A4E-BA09-51DC52AF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E52B-E850-482B-B696-9B655746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4539-AD8A-41F0-8C09-D76719354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DACD-35D3-44C6-B31C-F3A24BAD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C3EA6-9151-4709-A121-1D1C3D9C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0F84D-A015-462A-987F-F7406CE6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6F6F6-1E7B-418C-AA2C-40C3F433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A215A-DD6B-4187-B1B3-9F446A2E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4C7F6-0329-4537-B277-0B46F0CF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66B1-A0E0-48CF-B00D-5E185226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D8A0F-3161-486D-BF7B-4314A55E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C3E16-89E9-4803-AB1E-DC7BD2CA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7C3FD-6608-4F3D-88E6-7C5506AE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6A844-36B3-46B0-AA6B-C7C8EA53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C2289-4F1B-4A5F-ACF3-1B70312C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C9105-271D-43D5-9426-0F6A04F0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02F90-E6B9-4F61-A4DB-93719331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F727B-704B-4802-AFD8-68083ED5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BA5CB-A992-4177-B475-0CE36496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5A669-55E3-4DB4-95F3-836EBC03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EE38-275A-44E1-B5D2-3328D6A5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B357C-0E53-4D8B-B48A-5734D039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FE3C6-FFCB-4D19-9FFC-F4671CED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37243-DFA7-4D89-931F-22B6CEAF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B58A5-0D5A-4824-8BBF-6E58EFBE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64E51-655C-4E61-A7A7-327EDD81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CE9E1-D8F0-4FD9-BDFF-26AC1D10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FF968-F0B3-43EA-971A-B6E3FA7E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CC099-BDD9-4D6A-854C-44EC51AB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F08EF-51D5-4F6E-8E22-FC6B567C2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828BA-DCEB-41EA-B567-DB3FAC9D4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EA1E-C8F5-46A3-85C3-12E21BF1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E1FB5-9C3B-4C6C-8CA6-54416D24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590F8-3800-4113-AD6B-2BB8B51A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DAC5A-2144-487E-A1E3-E6481ACE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F9D49-EA47-45B5-832C-BC2493F6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B889D-857B-44B7-8F5D-D73C8BA8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DC087-44AD-46B4-8618-22ABBBB9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12B40-023D-4E82-8AD9-9A29AE78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6E9C6-9A6C-4E22-9DF9-A808EBFA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558D8-B00E-431F-AF30-4C3D1601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F6FA4-0E50-44DE-BF0B-7FCB99D4E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6AF8-E405-4C8F-BF4D-0FF3CE0A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7DDA3-7B3A-4BCA-988A-0C3C3186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F231-7420-47B2-BE93-EC4ADEDD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66B6-7D8B-4C94-B18B-9E11AE85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9E51-B273-416E-BD41-49489C95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8EFF-7AC3-40DC-9F1C-B7D87553A6E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A0A9-952C-423D-A6F3-D6A34552CB6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EDC3-8101-4C26-8E04-D760BB9DA88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5C4F-3D56-4906-ABD2-1839C70A18C1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D973-3E00-4CD7-A786-F48F96C33A0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774000" y="1617480"/>
            <a:ext cx="5992920" cy="120456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LOS APUNTES: ADVERBS THAT END IN –MEN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Tunga"/>
              </a:rPr>
              <a:t>5.2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Tung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Tunga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Franklin Gothic Book"/>
                <a:ea typeface="Tung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Tunga"/>
              </a:rPr>
              <a:t> YEAR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Tung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Tung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Medium"/>
              </a:rPr>
              <a:t>WHITE BOARD PRACTICE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100160"/>
            <a:ext cx="853416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ranklin Gothic Book"/>
              </a:rPr>
              <a:t>I am running carefully.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777600" indent="-4989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Yo estoy corriendo cuidadosamente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97160" indent="-497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ranklin Gothic Book"/>
              </a:rPr>
              <a:t>2. We are talking easily and calmly.</a:t>
            </a: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777600" indent="-4989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Estamos hablando fácil y tranquilamente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555840" indent="-49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ranklin Gothic Book"/>
              </a:rPr>
              <a:t>3. I especially like (Especially I like) the appetizers in this restaurant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777600" indent="-4989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Especialmente me gustan las tapas en este restaurante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5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0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5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0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5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0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240" y="669960"/>
            <a:ext cx="88390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7c984a"/>
                </a:solidFill>
                <a:latin typeface="Franklin Gothic Medium"/>
              </a:rPr>
              <a:t>WHITE BOARD PRACTICE </a:t>
            </a:r>
            <a:r>
              <a:rPr b="0" lang="es-ES_tradnl" sz="2800" spc="-1" strike="noStrike">
                <a:solidFill>
                  <a:srgbClr val="000000"/>
                </a:solidFill>
                <a:latin typeface="Franklin Gothic Medium"/>
              </a:rPr>
              <a:t>– ANSWER THE QUESTION BY SAYING THAT THE PERSON</a:t>
            </a:r>
            <a:r>
              <a:rPr b="0" lang="es-ES_tradnl" sz="2800" spc="-1" strike="noStrike">
                <a:solidFill>
                  <a:srgbClr val="f96a1b"/>
                </a:solidFill>
                <a:latin typeface="Franklin Gothic Medium"/>
              </a:rPr>
              <a:t> IS/ARE DOING </a:t>
            </a:r>
            <a:r>
              <a:rPr b="0" lang="es-ES_tradnl" sz="2800" spc="-1" strike="noStrike">
                <a:solidFill>
                  <a:srgbClr val="000000"/>
                </a:solidFill>
                <a:latin typeface="Franklin Gothic Medium"/>
              </a:rPr>
              <a:t>IT/THEM </a:t>
            </a:r>
            <a:r>
              <a:rPr b="0" lang="es-ES_tradnl" sz="2800" spc="-1" strike="noStrike">
                <a:solidFill>
                  <a:srgbClr val="08a1d9"/>
                </a:solidFill>
                <a:latin typeface="Franklin Gothic Medium"/>
              </a:rPr>
              <a:t>RIGHT NOW</a:t>
            </a:r>
            <a:r>
              <a:rPr b="0" lang="es-ES_tradnl" sz="2800" spc="-1" strike="noStrike">
                <a:solidFill>
                  <a:srgbClr val="000000"/>
                </a:solidFill>
                <a:latin typeface="Franklin Gothic Medium"/>
              </a:rPr>
              <a:t>. YOU WILL HAVE A </a:t>
            </a:r>
            <a:r>
              <a:rPr b="0" lang="es-ES_tradnl" sz="2800" spc="-1" strike="noStrike">
                <a:solidFill>
                  <a:srgbClr val="ff0000"/>
                </a:solidFill>
                <a:latin typeface="Franklin Gothic Medium"/>
              </a:rPr>
              <a:t>REFLEXIVE PRONOUN </a:t>
            </a:r>
            <a:r>
              <a:rPr b="0" lang="es-ES_tradnl" sz="2800" spc="-1" strike="noStrike">
                <a:solidFill>
                  <a:srgbClr val="000000"/>
                </a:solidFill>
                <a:latin typeface="Franklin Gothic Medium"/>
              </a:rPr>
              <a:t>OR </a:t>
            </a:r>
            <a:r>
              <a:rPr b="0" lang="es-ES_tradnl" sz="2800" spc="-1" strike="noStrike">
                <a:solidFill>
                  <a:srgbClr val="ff0000"/>
                </a:solidFill>
                <a:latin typeface="Franklin Gothic Medium"/>
              </a:rPr>
              <a:t>DIRECT OBJECT PRONOUN</a:t>
            </a:r>
            <a:r>
              <a:rPr b="0" lang="es-ES_tradnl" sz="2800" spc="-1" strike="noStrike">
                <a:solidFill>
                  <a:srgbClr val="000000"/>
                </a:solidFill>
                <a:latin typeface="Franklin Gothic Medium"/>
              </a:rPr>
              <a:t> IN THE ANSWER.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560" y="1906560"/>
            <a:ext cx="883908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ranklin Gothic Book"/>
              </a:rPr>
              <a:t>¿Vas a bañarte hoy?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71600" indent="-47160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Estoy bañándome. (Me estoy bañando.)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71600" indent="-471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ranklin Gothic Book"/>
              </a:rPr>
              <a:t>2. ¿Va a sacar la basura Elena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71600" indent="-47160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Ella está sacándola.  (Ella la está sacando.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71600" indent="-471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ranklin Gothic Book"/>
              </a:rPr>
              <a:t>3. ¿Vais a peinaros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71600" indent="-47160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Estamos peinándonos. (Nos estamos peinando.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71600" indent="-471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ranklin Gothic Book"/>
              </a:rPr>
              <a:t>4. ¿Van a escuchar la música las chicas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71600" indent="-47160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Ellas están escuchándola. (Ellas la están escuchando.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527040" indent="-473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7" dur="2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2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2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20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2000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DJECTIVES ENDING IN E, L, Z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38080" y="1098360"/>
            <a:ext cx="752184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o describe how something is done, you should use _______________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When an adjective ends in ______, ______, or ______, simply add ______________ to the end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1639800" y="18954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6a1b"/>
                </a:solidFill>
                <a:latin typeface="Franklin Gothic Book"/>
                <a:ea typeface="Arial"/>
              </a:rPr>
              <a:t>ADVERB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TextBox 4"/>
          <p:cNvSpPr/>
          <p:nvPr/>
        </p:nvSpPr>
        <p:spPr>
          <a:xfrm>
            <a:off x="4495680" y="3124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6a1b"/>
                </a:solidFill>
                <a:latin typeface="Franklin Gothic Book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TextBox 5"/>
          <p:cNvSpPr/>
          <p:nvPr/>
        </p:nvSpPr>
        <p:spPr>
          <a:xfrm>
            <a:off x="5486400" y="3124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6a1b"/>
                </a:solidFill>
                <a:latin typeface="Franklin Gothic Book"/>
                <a:ea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TextBox 6"/>
          <p:cNvSpPr/>
          <p:nvPr/>
        </p:nvSpPr>
        <p:spPr>
          <a:xfrm>
            <a:off x="6934320" y="31240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6a1b"/>
                </a:solidFill>
                <a:latin typeface="Franklin Gothic Book"/>
                <a:ea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TextBox 7"/>
          <p:cNvSpPr/>
          <p:nvPr/>
        </p:nvSpPr>
        <p:spPr>
          <a:xfrm>
            <a:off x="3087720" y="3809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6a1b"/>
                </a:solidFill>
                <a:latin typeface="Franklin Gothic Book"/>
                <a:ea typeface="Arial"/>
              </a:rPr>
              <a:t>MENT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DJECTIVES ENDING IN E, L, OR Z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reciente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recent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frecuente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requent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fácil 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easy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normal 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normal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especial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pecial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feliz 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happy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3352680" y="104616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reciente</a:t>
            </a:r>
            <a:r>
              <a:rPr b="0" lang="en-US" sz="3000" spc="-1" strike="noStrike">
                <a:solidFill>
                  <a:srgbClr val="f96a1b"/>
                </a:solidFill>
                <a:latin typeface="Franklin Gothic Book"/>
                <a:ea typeface="Arial"/>
              </a:rPr>
              <a:t>mente  </a:t>
            </a:r>
            <a:r>
              <a:rPr b="0" lang="en-US" sz="2000" spc="-1" strike="noStrike">
                <a:solidFill>
                  <a:srgbClr val="f96a1b"/>
                </a:solidFill>
                <a:latin typeface="Franklin Gothic Book"/>
                <a:ea typeface="Arial"/>
              </a:rPr>
              <a:t>recently, lately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3809880" y="1625760"/>
            <a:ext cx="4800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frecuente</a:t>
            </a:r>
            <a:r>
              <a:rPr b="0" lang="en-US" sz="3000" spc="-1" strike="noStrike">
                <a:solidFill>
                  <a:srgbClr val="f96a1b"/>
                </a:solidFill>
                <a:latin typeface="Franklin Gothic Book"/>
                <a:ea typeface="Arial"/>
              </a:rPr>
              <a:t>mente </a:t>
            </a:r>
            <a:r>
              <a:rPr b="0" lang="en-US" sz="2000" spc="-1" strike="noStrike">
                <a:solidFill>
                  <a:srgbClr val="f96a1b"/>
                </a:solidFill>
                <a:latin typeface="Franklin Gothic Book"/>
                <a:ea typeface="Arial"/>
              </a:rPr>
              <a:t>frequently, often</a:t>
            </a:r>
            <a:r>
              <a:rPr b="0" lang="en-US" sz="3000" spc="-1" strike="noStrike">
                <a:solidFill>
                  <a:srgbClr val="f96a1b"/>
                </a:solidFill>
                <a:latin typeface="Franklin Gothic Book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2971800" y="2209680"/>
            <a:ext cx="342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fácil</a:t>
            </a:r>
            <a:r>
              <a:rPr b="0" lang="en-US" sz="3000" spc="-1" strike="noStrike">
                <a:solidFill>
                  <a:srgbClr val="f96a1b"/>
                </a:solidFill>
                <a:latin typeface="Franklin Gothic Book"/>
                <a:ea typeface="Arial"/>
              </a:rPr>
              <a:t>mente </a:t>
            </a:r>
            <a:r>
              <a:rPr b="0" lang="en-US" sz="2000" spc="-1" strike="noStrike">
                <a:solidFill>
                  <a:srgbClr val="f96a1b"/>
                </a:solidFill>
                <a:latin typeface="Franklin Gothic Book"/>
                <a:ea typeface="Arial"/>
              </a:rPr>
              <a:t>easily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3657600" y="2743200"/>
            <a:ext cx="3429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normal</a:t>
            </a:r>
            <a:r>
              <a:rPr b="0" lang="en-US" sz="3000" spc="-1" strike="noStrike">
                <a:solidFill>
                  <a:srgbClr val="f96a1b"/>
                </a:solidFill>
                <a:latin typeface="Franklin Gothic Book"/>
                <a:ea typeface="Arial"/>
              </a:rPr>
              <a:t>mente </a:t>
            </a:r>
            <a:r>
              <a:rPr b="0" lang="en-US" sz="2000" spc="-1" strike="noStrike">
                <a:solidFill>
                  <a:srgbClr val="f96a1b"/>
                </a:solidFill>
                <a:latin typeface="Franklin Gothic Book"/>
                <a:ea typeface="Arial"/>
              </a:rPr>
              <a:t>normally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3276720" y="3276720"/>
            <a:ext cx="426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especial</a:t>
            </a:r>
            <a:r>
              <a:rPr b="0" lang="en-US" sz="3000" spc="-1" strike="noStrike">
                <a:solidFill>
                  <a:srgbClr val="f96a1b"/>
                </a:solidFill>
                <a:latin typeface="Franklin Gothic Book"/>
                <a:ea typeface="Arial"/>
              </a:rPr>
              <a:t>mente </a:t>
            </a:r>
            <a:r>
              <a:rPr b="0" lang="en-US" sz="2000" spc="-1" strike="noStrike">
                <a:solidFill>
                  <a:srgbClr val="f96a1b"/>
                </a:solidFill>
                <a:latin typeface="Franklin Gothic Book"/>
                <a:ea typeface="Arial"/>
              </a:rPr>
              <a:t>especially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1" name="TextBox 8"/>
          <p:cNvSpPr/>
          <p:nvPr/>
        </p:nvSpPr>
        <p:spPr>
          <a:xfrm>
            <a:off x="2971800" y="3807000"/>
            <a:ext cx="342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feliz</a:t>
            </a:r>
            <a:r>
              <a:rPr b="0" lang="en-US" sz="3000" spc="-1" strike="noStrike">
                <a:solidFill>
                  <a:srgbClr val="f96a1b"/>
                </a:solidFill>
                <a:latin typeface="Franklin Gothic Book"/>
                <a:ea typeface="Arial"/>
              </a:rPr>
              <a:t>mente </a:t>
            </a:r>
            <a:r>
              <a:rPr b="0" lang="en-US" sz="2000" spc="-1" strike="noStrike">
                <a:solidFill>
                  <a:srgbClr val="f96a1b"/>
                </a:solidFill>
                <a:latin typeface="Franklin Gothic Book"/>
                <a:ea typeface="Arial"/>
              </a:rPr>
              <a:t>happily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DJECTIVES ENDING IN O, A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When an adjective ends in _______ or _______, you should add _____________ to the 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Book"/>
              </a:rPr>
              <a:t>feminine form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of the word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2971800" y="1981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6a1b"/>
                </a:solidFill>
                <a:latin typeface="Franklin Gothic Book"/>
                <a:ea typeface="Arial"/>
              </a:rPr>
              <a:t>MENT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" name="TextBox 10"/>
          <p:cNvSpPr/>
          <p:nvPr/>
        </p:nvSpPr>
        <p:spPr>
          <a:xfrm>
            <a:off x="5943600" y="1295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6a1b"/>
                </a:solidFill>
                <a:latin typeface="Franklin Gothic Book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TextBox 11"/>
          <p:cNvSpPr/>
          <p:nvPr/>
        </p:nvSpPr>
        <p:spPr>
          <a:xfrm>
            <a:off x="4572000" y="1295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6a1b"/>
                </a:solidFill>
                <a:latin typeface="Franklin Gothic Book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DJECTIVES ENDING IN O, A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cuidadoso(a)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careful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rápido(a) 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ast, quick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lento(a) 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low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tranquilo(a) 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calm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3962520" y="1066680"/>
            <a:ext cx="525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cuidadosa</a:t>
            </a:r>
            <a:r>
              <a:rPr b="0" lang="en-US" sz="3000" spc="-1" strike="noStrike">
                <a:solidFill>
                  <a:srgbClr val="f96a1b"/>
                </a:solidFill>
                <a:latin typeface="Franklin Gothic Book"/>
                <a:ea typeface="Arial"/>
              </a:rPr>
              <a:t>mente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carefully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3733920" y="1676520"/>
            <a:ext cx="525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rápida</a:t>
            </a:r>
            <a:r>
              <a:rPr b="0" lang="en-US" sz="3000" spc="-1" strike="noStrike">
                <a:solidFill>
                  <a:srgbClr val="f96a1b"/>
                </a:solidFill>
                <a:latin typeface="Franklin Gothic Book"/>
                <a:ea typeface="Arial"/>
              </a:rPr>
              <a:t>mente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quickly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TextBox 5"/>
          <p:cNvSpPr/>
          <p:nvPr/>
        </p:nvSpPr>
        <p:spPr>
          <a:xfrm>
            <a:off x="3505320" y="2286000"/>
            <a:ext cx="525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lenta</a:t>
            </a:r>
            <a:r>
              <a:rPr b="0" lang="en-US" sz="3000" spc="-1" strike="noStrike">
                <a:solidFill>
                  <a:srgbClr val="f96a1b"/>
                </a:solidFill>
                <a:latin typeface="Franklin Gothic Book"/>
                <a:ea typeface="Arial"/>
              </a:rPr>
              <a:t>mente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slowly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TextBox 6"/>
          <p:cNvSpPr/>
          <p:nvPr/>
        </p:nvSpPr>
        <p:spPr>
          <a:xfrm>
            <a:off x="3809880" y="2798640"/>
            <a:ext cx="525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tranquila</a:t>
            </a:r>
            <a:r>
              <a:rPr b="0" lang="en-US" sz="3000" spc="-1" strike="noStrike">
                <a:solidFill>
                  <a:srgbClr val="f96a1b"/>
                </a:solidFill>
                <a:latin typeface="Franklin Gothic Book"/>
                <a:ea typeface="Arial"/>
              </a:rPr>
              <a:t>mente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calmly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CCENT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Notice that you must keep an __________________ when an adjective is changed to an adverb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Rápido                rápidament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ácil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ácilment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When you are using two adverbs, __________ the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-mente from the __________ adverb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lenta y tranquila</a:t>
            </a:r>
            <a:r>
              <a:rPr b="0" lang="en-US" sz="2400" spc="-1" strike="noStrike">
                <a:solidFill>
                  <a:srgbClr val="f96a1b"/>
                </a:solidFill>
                <a:latin typeface="Franklin Gothic Book"/>
              </a:rPr>
              <a:t>mente  (slowly and calmly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Right Arrow 3"/>
          <p:cNvSpPr/>
          <p:nvPr/>
        </p:nvSpPr>
        <p:spPr>
          <a:xfrm>
            <a:off x="2438280" y="2066760"/>
            <a:ext cx="9144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f96a1b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Right Arrow 4"/>
          <p:cNvSpPr/>
          <p:nvPr/>
        </p:nvSpPr>
        <p:spPr>
          <a:xfrm>
            <a:off x="2438280" y="2514600"/>
            <a:ext cx="9144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96a1b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5334120" y="990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6a1b"/>
                </a:solidFill>
                <a:latin typeface="Franklin Gothic Book"/>
                <a:ea typeface="Arial"/>
              </a:rPr>
              <a:t>ACCEN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TextBox 6"/>
          <p:cNvSpPr/>
          <p:nvPr/>
        </p:nvSpPr>
        <p:spPr>
          <a:xfrm>
            <a:off x="2895480" y="34336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6a1b"/>
                </a:solidFill>
                <a:latin typeface="Franklin Gothic Book"/>
                <a:ea typeface="Arial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TextBox 7"/>
          <p:cNvSpPr/>
          <p:nvPr/>
        </p:nvSpPr>
        <p:spPr>
          <a:xfrm>
            <a:off x="5181480" y="29718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6a1b"/>
                </a:solidFill>
                <a:latin typeface="Franklin Gothic Book"/>
                <a:ea typeface="Arial"/>
              </a:rPr>
              <a:t>DROP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LA PR</a:t>
            </a:r>
            <a:r>
              <a:rPr b="0" lang="es-ES_tradnl" sz="2800" spc="-1" strike="noStrike">
                <a:solidFill>
                  <a:srgbClr val="000000"/>
                </a:solidFill>
                <a:latin typeface="Franklin Gothic Medium"/>
              </a:rPr>
              <a:t>ÁCTICA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9144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Franklin Gothic Book"/>
              </a:rPr>
              <a:t>Luis talks quickly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1600" indent="-15552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Franklin Gothic Book"/>
              </a:rPr>
              <a:t>Luis habla rápidamente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Franklin Gothic Book"/>
              </a:rPr>
              <a:t>2. Mercedes works frequently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1600" indent="-15552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Franklin Gothic Book"/>
              </a:rPr>
              <a:t>Mercedes trabaja frecuentemente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Franklin Gothic Book"/>
              </a:rPr>
              <a:t>3. Alvaro waits patiently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1600" indent="-15552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Franklin Gothic Book"/>
              </a:rPr>
              <a:t>Alvaro espera pacientemente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Franklin Gothic Book"/>
              </a:rPr>
              <a:t>4</a:t>
            </a:r>
            <a:r>
              <a:rPr b="1" lang="es-MX" sz="2800" spc="-1" strike="noStrike">
                <a:solidFill>
                  <a:srgbClr val="000000"/>
                </a:solidFill>
                <a:latin typeface="Franklin Gothic Book"/>
              </a:rPr>
              <a:t>. </a:t>
            </a:r>
            <a:r>
              <a:rPr b="0" lang="es-MX" sz="2800" spc="-1" strike="noStrike">
                <a:solidFill>
                  <a:srgbClr val="000000"/>
                </a:solidFill>
                <a:latin typeface="Franklin Gothic Book"/>
              </a:rPr>
              <a:t>Jorge finishes his homework slowly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1600" indent="-15552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Franklin Gothic Book"/>
              </a:rPr>
              <a:t>Jorge termina su tarea lentamente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Franklin Gothic Book"/>
              </a:rPr>
              <a:t>5. Beto and Marta sing  carefully and happily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1600" indent="-15552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Franklin Gothic Book"/>
              </a:rPr>
              <a:t>Beto y Marta cantan cuidadosa y felizmente</a:t>
            </a:r>
            <a:r>
              <a:rPr b="0" lang="es-MX" sz="2800" spc="-1" strike="noStrike">
                <a:solidFill>
                  <a:srgbClr val="000000"/>
                </a:solidFill>
                <a:latin typeface="Franklin Gothic 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Franklin Gothic Book"/>
              </a:rPr>
              <a:t>6. We run slowly and calmly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1600" indent="-15552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Franklin Gothic Book"/>
              </a:rPr>
              <a:t>Nosotros corremos lenta y tranquilamente.</a:t>
            </a:r>
            <a:r>
              <a:rPr b="0" lang="es-MX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1600" indent="-15552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WHITE BOARD PRACTICE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914400"/>
            <a:ext cx="832176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lv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1.  Enrique vacuums carefully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264960" indent="-10800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Enrique pasa la aspiradora cuidadosamente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2.  Rocío and Ana dust normally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264960" indent="-10800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Rocío y Ana quitan el polvo normalmente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3. Manuela goes shopping frequently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264960" indent="-10800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Manuela va de compras frecuentemente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4. Pamela eats breakfast calmly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264960" indent="-10800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Pamela desayuna tranquilamente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5. We dance happily.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264960" indent="-10800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Nosotros bailamos felizmente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226080" indent="-226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Medium"/>
              </a:rPr>
              <a:t>WHITE BOARD PRACTICE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100160"/>
            <a:ext cx="830592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ranklin Gothic Book"/>
              </a:rPr>
              <a:t>1. I should sweep the floor quickly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96a1b"/>
                </a:solidFill>
                <a:latin typeface="Franklin Gothic Book"/>
              </a:rPr>
              <a:t>Yo debo barrer el suelo rápidamente.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ranklin Gothic Book"/>
              </a:rPr>
              <a:t>2. You (singular/formal) should shower yourself.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96a1b"/>
                </a:solidFill>
                <a:latin typeface="Franklin Gothic Book"/>
              </a:rPr>
              <a:t>Usted debe ducharse. 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ranklin Gothic Book"/>
              </a:rPr>
              <a:t>3. You all (plural/familiar/Spain) should take out the trash frequently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96a1b"/>
                </a:solidFill>
                <a:latin typeface="Franklin Gothic Book"/>
              </a:rPr>
              <a:t>Vosotros debéis sacar la basura frecuentemente.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8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8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8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8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8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8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8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22:16:05Z</dcterms:created>
  <dc:creator>Taeger, Amber</dc:creator>
  <dc:description/>
  <dc:language>en-US</dc:language>
  <cp:lastModifiedBy>Prine, Stephanie</cp:lastModifiedBy>
  <dcterms:modified xsi:type="dcterms:W3CDTF">2013-11-04T17:10:27Z</dcterms:modified>
  <cp:revision>11</cp:revision>
  <dc:subject/>
  <dc:title>Adverbs that end in –mente</dc:title>
</cp:coreProperties>
</file>